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4F3-DF62-446B-AC92-F7BC3AA0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73A-FB2E-444E-84AE-7A37F0D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A85-E2FC-4E45-AA11-DFA7DA22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278-47F2-4612-A0F1-2ED560DA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F9F-1D83-4920-8656-6EC6266B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02E-1AEE-4519-B600-606CE9F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88C-4D26-47D2-8187-04F87F6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7B3-1B31-4776-893D-00E5350E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36B-E592-434B-8939-F6270A8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1EB-8B24-4FB6-AFF9-EFAA66E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AEF-A9DE-42A8-9724-5621B2C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FCD-1C18-4599-9B47-72AEE73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AB4B-DE2A-4792-8A2E-F2C3FF54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3300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Old English Text MT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By Jacob Russ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1819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Harmony 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omputer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5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taff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5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Har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in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3760" y="24382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53:18Z</dcterms:created>
  <dc:creator>4glenb2</dc:creator>
  <dc:description/>
  <dc:language>en-US</dc:language>
  <cp:lastModifiedBy>4glenb2</cp:lastModifiedBy>
  <dcterms:modified xsi:type="dcterms:W3CDTF">2009-09-30T10:29:22Z</dcterms:modified>
  <cp:revision>2</cp:revision>
  <dc:subject/>
  <dc:title>Our school</dc:title>
</cp:coreProperties>
</file>